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9F22-0C39-4C22-902E-746485193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20D-FC65-4A8F-987A-B5100171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91EB-5B89-4FAF-B6B3-7ED285EF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F24-6FA6-4891-89FF-DF57F4C6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165C-3E09-4018-BCE6-A9884573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0796-4167-4CD8-BCBD-01493331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EE59-391B-418F-85E5-EA54ACFD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FF6F-E907-44C6-B5AC-2F655DDD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993B-B0CC-4541-91E2-BEBCD86D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6C01-418C-41A6-AE58-D482767C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0EB6-3890-4017-B34F-E781951E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664-3157-4C4B-957D-D6EAD30F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A291-6E18-47CC-ADD7-52AD527D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1922-E4A7-4618-9C15-56B30538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585D-7E2B-43E0-95E0-EB4CCE52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77AB5-A6C3-42AA-8FA3-4BF6876E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A64B-7041-441F-B46C-F2676C3B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FB3-4958-4AC3-9DC2-F336CF7A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5F65-9399-4422-A6F8-8996AC33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C61-41D8-4E99-83AB-53CED2DD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A807-5568-4C14-8397-3840DE22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958-82F6-416E-B0B1-CAB4F761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A83-9C7D-493C-99E3-F016A9A6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5A4-F5DA-46E8-AD27-493D2D41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35A0-F1B1-4E10-B2A2-30BE8C1CDE0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5F70-9847-42A1-893C-58953B600DC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Why Didn’t They Leave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dz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hetto in Po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aled off- 160,000 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rvation, overcrowding, exposure to cold, disease kills thous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y to create sense of daily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ced lab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sa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hetto in Pol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ilar to Lodz but larger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50,000 Jews (30 % of population) live in 2.4 % of c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iquidate the Ghett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42-1944 Nazi officials eliminate ghet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ort survivors to extermination cam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didn’t they leav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y people left Ger to escape the Naz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went to other Europea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rmany invades rest of Europe-caught with nowhere to 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y didn’t they leav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d time getting to USA and other countries-quotas, can’t get vis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lity-most countries did not want to take anyo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t. Lou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900 people on board trying to get to Cuba or USA-turned away-returns to Germa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229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‘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ndesirables’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al opponents, trade unionists declared ‘undesirables’ &amp; ‘enemies of the state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hovah’s Witnesses banned-kids taken a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o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zis considered Poles ‘subhuman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lled professors, artists, writers, politicians, prie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ndicapped deemed ‘incurable’ &amp; ki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upset with this idea, Nazis do killings in secre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viet Un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ws, political leaders, Communists, Gypsies killed in mass shoot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bile killing squads-followed behind Ger arm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bi Yar (near Kiev) 33,000 people killed over 2 da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of everyone in BHC being ki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11/23/1939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zi authorities declare all Jews living in the General Gov’t (all areas under Ger occupation) must wear white badges with a blue Star of Dav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411480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hett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,000,000 Jews in Poland forced to live in ghet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zis create about 400 ghett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4T18:39:36Z</dcterms:created>
  <dc:creator>Julianne Stolarczyk</dc:creator>
  <dc:description/>
  <dc:language>en-US</dc:language>
  <cp:lastModifiedBy>Stephen Rauch</cp:lastModifiedBy>
  <dcterms:modified xsi:type="dcterms:W3CDTF">2008-03-28T19:47:56Z</dcterms:modified>
  <cp:revision>4</cp:revision>
  <dc:subject/>
  <dc:title>Immigration</dc:title>
</cp:coreProperties>
</file>